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8EC4-28E6-4762-837F-863B79945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3F52-70B4-4DBF-B911-58408F48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68F66C-E3FA-4BAF-9EB5-B46B2DBED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F38DCC-B6F8-436F-BA2E-E616CACE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773668-FE45-478C-A299-65083CCDF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1E9A89-12D3-4357-A4DF-642DC3690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FF7585-D906-43A3-B19D-6FB32115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303E09-5AD0-4496-8484-436D16568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5F25C7-DB96-4891-83AE-4E381A304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8870A7-4844-4D4C-B33F-9B1FFE364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FFF44C-38FE-4DA2-8C74-E4DB5DA05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4BFB7CD-A21F-4887-B454-5472D80D3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944A-0525-401C-B15B-91B23B4E8D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51F836-ADF7-458C-A39C-6027B09D9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92B537-13C7-42B9-95C2-E0051EB14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3BAA15-9620-402E-92E8-2D2E815F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EA821FA-DFD5-4B6D-8889-305C83D4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DAAD75-0313-45AD-838A-CA2F4148D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C6662E-04D8-436A-8F07-31AE8B94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D554BF-67D9-4B4E-9682-B207C1021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18B5B9-E65A-4A05-9F01-6667D83B3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AD47ADD-33D5-447A-AC78-3CBADA163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BC7D03-A3C3-45F4-8BA2-7F7B6A38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C1664-45EA-4BBC-AEE8-3E461A7D4B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C7A67-0958-4DFE-9130-ABD74D03E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7558F9-1E11-4EB3-B43F-98F2C1EA5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7DC29-C4C3-4C00-9AD9-D292946B8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66984E-CCA0-475C-A442-01B08D56F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CA007A-CC2D-40F3-9E20-7AA9165CD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B68BAD-D45D-4C27-8B6E-4C9A794F3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2EE447-4A56-44B4-8078-41B4BC60A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4E90C-AFCD-466E-AF6F-49AB80A4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0A1CE5-D93F-4D8B-B6F6-06B977AD3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12AA48-80EB-4697-BF21-8054FA4B4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A4CF1-B184-4E5A-90DB-E148C7EF7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7B1B1D-2B97-4E94-9575-C40497BF1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57C9A6-7565-4E62-ACE2-3624A6707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2CEE2F-B9BD-4951-8E47-8F83BB258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E15CCE-2E01-48AA-8F99-8D2913C46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C0B2E5-D25C-4E76-8B34-C7BA2A63E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F77927-1EB8-41B0-85C3-0DAD62BF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894641-1E11-4CE9-82A3-DA347337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E43FC0-8820-463A-86DD-4B96047A1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26E7F-77D4-4444-AEAE-D4AF3C63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98AE1F-36D3-46CE-B38F-88577E6A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3D36-5BD2-4DE6-AE16-157256AD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5760D6-9317-464B-95D9-06BDDB46B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D88ADB-DCAB-4877-8200-2D05FBA2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DA945C-E1D4-4662-BAE7-BFE92EE71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E326C6-9557-4B8F-871D-7583BC2D9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395918-EE3E-4BB6-BD0F-675550863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D48E6-7345-4D52-9860-5AEEA697A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02B5A7-9470-4465-935C-7B9C0873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D10A6A-1F6C-4E3A-B959-26FEA7356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784643-D207-4584-B8A5-13F3C664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B0660C-6B69-4A97-9123-87F205443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0CDE2-A4F1-4328-B6C6-B6A3847C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060A370-2829-4B51-BCCE-9B2C01858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9EE742-1699-4930-97B2-C8D6367A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BC2269-8E86-4039-B244-3C6E09A1F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E79656-69F5-44C7-B072-9D8579B1C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175DA7B-DD9C-48C4-9BB1-1A93C082B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3B3EE8-3152-4FC3-9D6A-E0266F4CC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EBE24-41FC-49D5-BDBE-99DDF942D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6199E6-EAA6-4115-986A-22D1CDCA4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45F12C8-5623-4FB3-9D52-348055299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FE38FA6-713E-49BD-BD29-17A9A89C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EDF8-DC29-4D07-B007-43F4FE9A6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39F2FB-C78B-479C-9B8C-9F94A36D1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F47C57-264A-4A86-95D1-84B3D3DD6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CE556E-2E17-4533-8D20-45189C61F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96D9FE-163F-4F68-81BF-7C21917EF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D0AD69-290C-4071-BCB5-08D2F5098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EAE786-6D2F-482E-80A0-B26FF4067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A58573-85E2-4BE5-B846-EB078E99E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4364F2-6714-410E-A611-F30D09037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E92DD2F-3AD2-42AC-AB02-61C4F6815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4FEBB4-1770-4483-8A62-F71763EED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A854-4D60-4B5B-BF56-8249A3AB8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88268A-7B83-492A-88D8-B2BC885DD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D81D7CA-EA8D-4EC6-AE39-BAFA9265A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EFF96A-8C05-47A2-B083-60EE0EF9D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550B08-40D0-4829-BC3A-250667236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F94BA-9005-4F06-B8A9-5AA34ED67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77D8A62-4D81-47D9-A58A-9A3EB126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6241E14-BD49-4993-AED0-C6C05227F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04680A-CC8A-4772-94E6-115F1A17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D26F933-720D-4636-BF16-DB4D4F96D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CFAAA4-AC01-4B7C-B9D7-562C9720B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A69D2-1F77-45EE-890C-3FACB3B46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4188E8-A9C8-4728-B36C-C644368B3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ED6908-89C0-4E23-9048-1F928FBA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7FA471-D462-438C-8EEE-6096A9F7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4D1D87-D02E-4293-AA3C-248E5866D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DFDD31-1D47-4E42-B00F-16A773F54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AB56BA-2325-4296-B718-6256C3B50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5E9CB02-D6DD-46FC-BBB5-AF14E58BA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D283DF4-D643-49EF-9E0E-9CC0866D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372608-0782-4DCB-BCA4-A7006504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132C61D-1D68-4BBD-AA94-155F8802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C1E35-38DB-4E3E-AC40-0F81AF1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8440C43-C8A2-4ACF-B31A-E3A5BB96B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53754C-F66A-4CA2-909F-4447AC6F6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A8A048-4BD4-45B6-B5FD-E166C923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1F592E-DC9C-47B3-A46F-32EAAEDA6C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5454A03-14B6-4900-8328-338421187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2C1A16-7451-4F73-9567-CCDC0D3B2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DC904-C7D2-4950-9E8A-C6C522216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0478FF-8D76-4FE1-9197-DE82B5BBD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115476-6CEF-4464-A8D5-DB754F7D4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55F32C2-16BA-4293-85DC-059424E33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81F1A-2E22-425D-9983-EABADAD24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AB11F-641A-4C09-AC38-E398C392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BE2804-C089-40B4-910C-61FE630C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9D9C9C-B5CE-418E-B1F4-554C17FD6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1F296-7168-4AB9-964E-169B9515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646566-3ABC-4E83-9497-138AB138C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089F55-D1E8-4979-9628-6DBF6C2A8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73A155-4A93-427E-BF29-512ECF833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555A42-5576-4216-A9FD-14BE3F865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69AD049-7F86-4C2D-8BF8-E00D7AFFC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EAC0E6-2026-4BA9-9A09-DD4C1239D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F0E762B-FEEF-4DA3-B3CA-10BAF0D79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5148D6-DE7A-48A4-937D-F1157391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CFF46CD-5B57-416F-BA35-7D35703C6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F3F7093-83A9-4C89-9BD9-EB427B856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D408232-B08D-4E87-9E45-289F6963A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8FA3FFC-F2AB-42E6-8EED-4EAC32F3A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D4340E9-FE65-4AE3-AEA3-22B90EBA6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67D942-39F3-4312-A480-7AE5C3F31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AB92A66-A740-4F85-8E13-848AA1C91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8180AE-B26D-4466-9CDE-001084D43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EECEE5-A176-47AB-992E-24C1AF7D5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C82029F-CC53-4F82-9A04-F295E8EB8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A9CB0-066A-439D-AB41-EEB54E793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BCAE0FB-39A1-448D-AFD8-65708CBED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3FECF07-FB10-44B9-AADF-859FE259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48EE4C4-A6C8-4902-9E1B-3F54ED2CC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02CDF1E-A79F-4D7C-AF12-7725D502A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6E6C5A-D8B1-4423-B517-439BEC6C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50D656-B5EE-44FD-A6C1-A7C702E3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7F9A89-5334-4272-B758-AE9CDF2D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6CEB02-461B-46FB-BF2D-30C069F3D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8D422F1-A10F-4BC2-B68F-743D8F9C8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DB0325-37C6-4394-81C1-2C4B5CE8C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864C5-F0A5-4681-8E40-3DD1B5163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24DE203-7D77-45CE-9A2B-86421A79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BEEEBB-CEA8-47ED-9740-6AC08FB8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024BD54-323F-4D39-A081-10DB986AA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DE40A-3710-4610-B0C5-DA4E638B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6656BB9-7600-4F90-84E0-26305159F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E85D90A-CA3C-4059-92CF-1262BD24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C969296-9104-447C-A750-25522EFB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A27E53-DEF4-4E7F-BE21-726FBAF2D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F92EA9-F4AC-4D82-85B4-0A38F02FF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207673-DE7B-4E61-B900-A4D1DE92FD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9A3C5-B5C4-4055-8056-E73F1392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2FC4ABA-019C-46F7-BFDD-6E274DCB59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86CC41-D90A-42C2-9656-8B399B510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173CF8-2BE4-4091-B525-7C9EF5813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22BC88-7B33-4042-8BD5-2B0F6EFA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DBABAA-C5BB-4441-B790-4FABC6B72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C5FBB8-76DD-4EA0-97A0-DD6922382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A07156-9BBA-4BA5-82BB-BC63EC5A4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F28C3D-77FE-4CD4-ACAC-45DD05F47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59EBA50-F9EB-4830-B509-EB95BD36A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A138E4-CD3D-4412-B390-9A6F07FF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0EFFB-A1AE-4790-97AF-E7DD90114A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670BD2-E783-49A9-AD1E-BA13B550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4D58D4-389F-4880-B459-D3E8C520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420454-AA20-4061-B993-4EAD9E3BB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7C23FE0-FEB0-40EB-A59B-05F63755A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2539562-45F8-4DE2-8045-3D5614E25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BF9E26-E32D-4F97-BC6A-B52583CBA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CF08E91-CA58-40D0-8EA9-8D85B3BD3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4B57EE-E1A4-4AE3-BEEA-0F2338BE1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DBC489B-1701-412D-B3E4-5BBE696A1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B2042C9-AFC8-4FD9-B7C4-E695B0427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4AD2EE-AB51-4832-8DF9-83303C76F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999FE50-5B46-4833-8624-3A46C92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064B6F-C9FB-43C7-943D-A8752D81B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27BD0F2-3243-4607-9F41-5DC1297C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FCE5761-D502-42A8-822A-F05A0CD6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A0179C-026B-46A2-9BE3-F211A587F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6CF7F68-1B2A-4CFC-A1F5-A1820593D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4E63FDA-967F-4420-8026-F721B86E9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E8E25E-B89A-4948-B971-7A9AB91B2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7D3A32-96B4-45E4-8805-A7D5DC171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D0701C-D4B9-412C-8C95-6294440F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F09BC-D0E3-4B0A-86B3-DF4ECFEBB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27A6C0-6514-4347-B3B7-1D810B80D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3A6F12-7974-4D3F-8026-E3DCC6E3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EC5012-53A2-4F85-84C4-376599D8B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EB5C10B-4E5D-4D6C-B866-A2B73CD9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96D680-B757-4CBC-85F3-3BAEEC748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DB8B652-FED9-4D59-82D2-EA5A7D2D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D9F7F3-5647-49B5-82D3-246742D3D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5C8D1D-3C93-4745-A93C-4CDDB822A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22097E-68E5-4599-9D76-66C8C1D31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D24431A-762C-4649-A382-682A22259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B6D264-B508-45F4-ABB1-143C12BA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6797484-7DFC-4A67-BFB5-BD212153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81EBA6-FFA9-4133-B44B-6142736B1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EE9713-A4DD-49EE-BA46-3F5CA804A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04B880-69EC-4015-A9AF-071DB774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7D85C89-A742-431E-826E-673000AC7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B7CB2D-EE62-47A5-9050-F2B709E0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E34BA8-8223-4E21-9580-13EE4CF21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2AEEC07-0942-41B1-B2AB-3045C67E6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E4CF10-F1E4-4CC2-B567-D2118B81F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447DD5F-91AC-4948-A431-6BA976C3F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3CCD0-6DDD-45D0-80E0-FB679215F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F884F73-6EFD-4BD1-A85D-2D354CBDB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C3575A-8E62-427D-AA93-BFDF2E65C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C59F023-EBB8-4166-9B46-F4DC24C01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99FB54-93C4-4AAC-99FC-DB7C40F7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CBA59D-FE71-408E-852A-2C2530546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584282A-C6DA-4213-BF90-C0DE4A09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A54CF50-705B-4252-B023-5A708B18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4DE326D-418C-4053-92EF-650F59CB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AF3572-BBDC-48D0-91FC-DE5B70D2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2F7274-0E33-4B06-A776-0066725B0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E303-9C8D-449B-94D4-4EA5C4D4A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DF98F-F672-4083-A7A5-52673E4C1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762C65F-30F9-4D32-8F86-736F69ABA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10F1293-AF87-4F93-B26D-CA499FF2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4B4D711-E06E-4A37-9AF9-28C8AFC4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709A2F4-00A5-49FD-8754-CA9E3C60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AB6D25-1DB4-4894-87E3-197B01693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779943A-00F5-402B-99D3-26B90B9F9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DBF8A9-5837-4D9C-B47C-8700B7CBE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08ED4B-9D45-493D-80D4-E7E8D33F7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28FE9DA-6B3A-4EF2-8CFA-B2C0268C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F52B70F-0E4E-4EF5-9650-DF52CCEE8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8299D1-8F71-47CD-B5FA-0EC35EBD6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DBC1FE1-C9F8-4503-A820-78306FB13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B075897-23F9-4C64-86FA-FDA0A122E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32FF71-7DB2-4AFD-B178-A16C46172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DBDBE6A-F6CA-4AF2-8209-21F561ED1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FBF9A6-D242-40E6-A6DD-8209A255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79648DE-1F5B-4A76-9CBD-9046D6140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F41B7A-96F0-4F11-A859-F15C3EA4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9A4D0CC-0F05-4075-9289-425B790C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36F2B25-060C-4A3B-A01D-1F5154071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C0CE2B-D2DF-470E-99ED-243E732F1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11C6DA-44C6-4B34-9799-91C3C91C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C458063-A64B-41EE-BE19-E8C21577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8373C2-19F8-49EC-A103-B6EED9A89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4E2F642-21A4-41E0-96E6-1AF7EAC8F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E7B27A-DE13-4FA6-A5E3-2676A013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D220056-64D7-4807-8513-122AB6B6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276E260-2319-42D3-B052-2E8605C95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D8038AE-9EC1-4820-A101-3297255E9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79FE734-3964-4AF2-B1D8-C9599093E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572B14-F7CC-4F1F-925A-397673638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E708CD2-F352-4141-8003-930E0BCD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AC9040-15C5-4D4B-B06B-D5DA3E67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8E9FDF6-7DF4-45C3-A44C-461D0A61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87CB00A-B883-4CF1-8F77-A601AC26D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1D2E6C9-D740-4200-901F-0F5637786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DC6051-848C-4437-8307-86501903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E2D6BA-E80A-4F40-891E-3867AB303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AF84208-B47C-4618-8684-B4DE9CC7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AE1815D-F6FA-4D6D-AD12-53C38BD4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E46AADD-A7D3-45A0-898D-F7B3590DA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9D7955A-9A5D-4878-8A3C-DC9F1880A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7010A4-7ABE-413F-A3F4-C479F54E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C2C620-C0A5-4F1B-9A5E-5C5E1F56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A69AEA-1B28-41DD-BD1D-0C40B7803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F1C554-18FB-4649-8D25-2001C9A84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333DCEF-4B42-4CCA-96D2-852B1B584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4BC95F9-0121-4A5B-859E-63B8EA8D4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D0EC5E2-DB8E-4A6C-89A0-A5311D1C1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61086E-378B-484D-B926-AEF0D6238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0A42DA-0751-4EE1-AD67-76E81F011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0A4F5A4-A805-486A-9054-56788DAB1C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67BC8E6-43D2-401F-81FA-8DBD41EB2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6DF257C-BF68-481D-8409-9784533A8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CE476-2209-4C21-878C-0F330F940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8755486-4970-4C52-8866-854DFBE49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6C0F6D7-93AC-40A8-9FC9-8CA779FDE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C0FA4EA-FB35-4397-9029-44829BEA4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E44E2DE-9A73-4393-AEAB-C5D03B41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FF4918-D28C-416E-A7CA-A356BF485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F3BB3F7-2D45-49D4-A6F1-F6A46D9B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A39175-7832-48C3-BDDF-AAB9EC54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E1AC961-3DC3-489D-9252-ED6F7EBAF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7E392F1-5918-4035-A067-9AAEC49BD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A1C7B75-652D-4FC3-AA77-476FD650D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415EBD-F72B-4648-847C-E0D11878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DC008E3-925D-48A7-8A46-6D489AE7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A42077E-4AEC-41AE-B40C-805100417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7523ED-5B90-43FC-A0F5-6783BF99F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C2F00C-A5AF-414D-B8C0-BA0199CCF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109FB6E-29EB-49A0-9433-EBFFDEA23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9F6BFDB-7C22-4613-A82C-ED8A28946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37F105-A439-4FE5-B6FD-465ED6E1A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5D992E-8BDE-46F0-96B8-02334012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E58A53A-96AA-4AD5-9AD2-44A05D92C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114D6FF-7098-4E5E-8CC2-4C07E69F2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9742C-CB41-430F-823A-D5335BDB1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5AAA25-D8FB-4EE3-886C-B2D12F9C4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F56631-A754-4F9F-94BB-0394DEDB6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DA02261-01A7-4A57-B64B-DE3464FC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4A841-B4F2-4E6F-A1D3-E3ABB266D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1ECD3-479E-4719-B2D8-30447BC4B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28AF6-B579-49E4-BBB3-47E1D43E0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71B3CF-4056-462F-83C5-03617092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CD5B8-980D-464D-B525-12EEED18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514B3D-44CF-4026-8404-CEDE42297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CA3BD-8C32-421D-8FF2-E68ED9B65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8851D-5D73-4BBB-9209-5A107022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C3B43F-0C78-4748-83A5-49F9B1E68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E9F50-0103-464E-BBDD-070A13F0F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68EBB-C1DC-4A80-A0D6-A48571A4D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95F5B8-01F6-4BC1-A938-D4600D1FF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B74838-3307-426B-BD9D-9CD0A500A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E7B3-D678-4207-BF48-5CBEB3E6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7991A-D80D-49D5-AC18-31B3702B3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280D7-73FE-47F0-8FE7-E30D2E342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2B1A5-45FB-459B-B981-E7F8793A2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E8FE4E-044E-4A55-9AF3-92E653D7E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E21902-602D-4D51-8D69-6E75DBC8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E9D02-8608-492E-AAB0-03AAE0BFC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CE0282-10ED-414B-9FE3-A0613EEBB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A29E7D-B153-41C7-AECB-7A63EF37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57E15E-F032-4E34-A3CB-76577B438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A6BF9-F017-43FB-A176-9DEEA71B3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8E70-2F2D-4F3E-B0C6-42E319EFF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D5DC35-D7D2-4F76-98D2-56262EAA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0BF15A-EC00-417A-A8B7-530AEF413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5707B5-7261-48ED-ACF3-179055344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1E4ADA-1068-4380-BC3A-33566992C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36CC5-3D4C-4B8D-A7DF-057D669E9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199043-B1C8-4F5D-B968-64F2C3313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202310-87E4-4DFA-8705-06904318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07CBD9-2FD8-4657-8BEC-BA428062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DA958-11E2-4378-A184-343F1D0CD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29B437-DC47-4FB4-B0CE-F8A61E48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AFAB-D451-4E71-AECB-8B5617C44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DA7783-07E2-4D19-92B9-E8A08C4E6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79C7FD-2D35-4DBE-A0D1-A0531BAA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240E41-A75A-43A4-A221-B12923B6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021934-F23E-45C4-8E8D-6ADF8741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15578E-4B47-454C-9B4F-1E5BF4A2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7A80D7-3B82-4F49-BA10-B5FC5219C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59A82B-6D1F-4425-9FA8-45C14D23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1493-32BF-4E75-87CA-68FF021D2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BEF2C-023F-477A-AE11-C6F9D0CB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DE24D-B92A-481F-AB0F-FF86C95FE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CADF-0E7F-41E1-8443-071B79E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C0F15A-5E05-4FA6-A3A6-A8B9BD4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766BBE-3DDA-40F3-B793-B5D05232C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E142E7-2CDE-405C-9AE2-46B5BE548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E9B201-7363-4866-A885-FA50B306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AAD229-B7D3-4196-A050-784ACCAC3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19BD52-3437-4F73-ACD6-1157384A0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307E1E-CA91-47C8-BEB0-747A3F6FA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EA2FE3-F838-463A-A606-39C054A3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BBD33D-EF58-4595-ADE4-3FD4DBAF6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F3F306-88F0-49E5-A57D-E25CD9FA0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C0ED-79E4-4FFE-92A6-126D25B4C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61F913-0AED-4CE0-AD70-E08E00C1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4E731-3CA0-4578-BFAD-3F19D97B8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21CD4E-0840-467A-8718-3BC4108D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00FEB-C5D6-46A1-A0F1-DD76AB8CD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1EF98F-91FC-43EC-9C16-4B4287EDC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4F09E2-BB3F-45BC-9BE9-205E157107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1899F-1346-42DA-BBB8-A0A89892D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D38250-75BF-4551-A8C6-A15E71B23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5EC01E-F649-4570-9035-42D947D9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06C1E-23FA-4CCA-A1E3-C75A590CB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33E90-477E-4626-A1A4-17EA35D2C1F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3778-6340-4989-AFE4-46321A19BA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38E99-5E4C-467B-9191-61259E8867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F606B-F047-475A-AF05-97C2C353600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A2C85-D2E7-42A2-B55D-037E5A0813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F5B17-6863-4A24-89FC-D57FDDB9AE7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5E115-B236-4A9D-B685-A6FA85F2664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BB83-7F79-4BEE-95E1-5DB4CA6932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125CF-0D5B-4CB6-899F-AB55AB145E8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C5E3D-A3D5-4E82-991D-434E410268E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5558F-48AC-429F-AA06-C9F48D4AFB5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C652-4694-4A33-9290-CA8CA2D9E5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59650-3AB7-4387-8547-A484099841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2B533-7DF0-41B5-A7B9-CFF0BD25FE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B8EC-AA43-49A3-B929-0AECC75C49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399C6-05D2-4EDA-AB2F-375A604BE7E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9EDB2-E235-42C5-8648-A3EF72BCFA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5808-0FB1-48B0-8C85-D067F62EC4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5D57-E5C9-4A44-9237-5B34753568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8D311-DEF9-4CDC-9309-B1F2D5EC2B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D43C2-5599-459A-AD40-87AC69008F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48EEB-2C74-4E1D-877A-8A6DEE28AA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BBF1-27C3-436F-880F-ED9B6DC60E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6FFF1-00C8-436B-8CA2-BB713FED8D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3607-7AEF-430D-B2E7-571C5573F1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FC3EF-768C-43B0-A835-A7CDAC115C2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751EE-D456-4E6D-BDD8-8C6076A3BD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2133-EA9B-4DDC-80CE-4E21DF7BF7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F0F4B-04A7-40F4-BA53-026C120D34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24D4D-F601-4E3C-A058-2B298D3EE8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B8B87-40FA-4642-A0D0-086107B885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237DC-0A28-44D6-B7D2-F8195EB56C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4DB35-3627-448C-9138-D8118B4F02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1534-53A3-453E-ABAB-CF64646D44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932BF-700A-47C6-8B15-0E48C930E7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75FE9-9E26-4ED6-82ED-BA0400CF20C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281E-0A46-406E-BC37-3653891C6F0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5A29D-6EF9-46F4-BDE8-CA7E5B3918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1F2DB-800E-41E8-81F2-7E476E19BC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6F85C-3134-46DB-863D-262BE831CC4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BEF67-6C32-45D8-84AE-EBD00AF8BC9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027A1-2DC2-4902-92A7-39AC770CA1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BD9CF-3C66-4415-8E66-EECA2C3EE6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E5FF-82AD-4DFA-8D36-0812321838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2C745-5E08-452F-A005-C1A97183822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A725-C526-48D2-8CBD-F04443F24B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172A-5698-4428-A160-2D7013F931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9BDBA-2F13-4CA8-B66E-4CA2364226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4310-EA62-4640-9BD5-31229A318A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F14F9-B732-4937-B4BE-DCE5FC0EA9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0" descr=""/>
          <p:cNvPicPr/>
          <p:nvPr/>
        </p:nvPicPr>
        <p:blipFill>
          <a:blip r:embed="rId1"/>
          <a:stretch/>
        </p:blipFill>
        <p:spPr>
          <a:xfrm>
            <a:off x="2916360" y="1484280"/>
            <a:ext cx="2600280" cy="116208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1" descr=""/>
          <p:cNvPicPr/>
          <p:nvPr/>
        </p:nvPicPr>
        <p:blipFill>
          <a:blip r:embed="rId2"/>
          <a:stretch/>
        </p:blipFill>
        <p:spPr>
          <a:xfrm>
            <a:off x="1476360" y="3284640"/>
            <a:ext cx="6267600" cy="8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79873" descr=""/>
          <p:cNvPicPr/>
          <p:nvPr/>
        </p:nvPicPr>
        <p:blipFill>
          <a:blip r:embed="rId1"/>
          <a:stretch/>
        </p:blipFill>
        <p:spPr>
          <a:xfrm>
            <a:off x="480960" y="923760"/>
            <a:ext cx="8182080" cy="50104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79874"/>
          <p:cNvSpPr/>
          <p:nvPr/>
        </p:nvSpPr>
        <p:spPr>
          <a:xfrm>
            <a:off x="7740720" y="4437000"/>
            <a:ext cx="50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78849" descr=""/>
          <p:cNvPicPr/>
          <p:nvPr/>
        </p:nvPicPr>
        <p:blipFill>
          <a:blip r:embed="rId1"/>
          <a:stretch/>
        </p:blipFill>
        <p:spPr>
          <a:xfrm>
            <a:off x="504720" y="1252440"/>
            <a:ext cx="8134560" cy="4353120"/>
          </a:xfrm>
          <a:prstGeom prst="rect">
            <a:avLst/>
          </a:prstGeom>
          <a:ln w="0">
            <a:noFill/>
          </a:ln>
        </p:spPr>
      </p:pic>
      <p:sp>
        <p:nvSpPr>
          <p:cNvPr id="1451" name="矩形 78850"/>
          <p:cNvSpPr/>
          <p:nvPr/>
        </p:nvSpPr>
        <p:spPr>
          <a:xfrm>
            <a:off x="7812000" y="400536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77825" descr=""/>
          <p:cNvPicPr/>
          <p:nvPr/>
        </p:nvPicPr>
        <p:blipFill>
          <a:blip r:embed="rId1"/>
          <a:stretch/>
        </p:blipFill>
        <p:spPr>
          <a:xfrm>
            <a:off x="490680" y="2328840"/>
            <a:ext cx="8162640" cy="2200320"/>
          </a:xfrm>
          <a:prstGeom prst="rect">
            <a:avLst/>
          </a:prstGeom>
          <a:ln w="0">
            <a:noFill/>
          </a:ln>
        </p:spPr>
      </p:pic>
      <p:sp>
        <p:nvSpPr>
          <p:cNvPr id="1453" name="矩形 77826"/>
          <p:cNvSpPr/>
          <p:nvPr/>
        </p:nvSpPr>
        <p:spPr>
          <a:xfrm>
            <a:off x="7740720" y="3429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76801" descr=""/>
          <p:cNvPicPr/>
          <p:nvPr/>
        </p:nvPicPr>
        <p:blipFill>
          <a:blip r:embed="rId1"/>
          <a:stretch/>
        </p:blipFill>
        <p:spPr>
          <a:xfrm>
            <a:off x="442800" y="2066760"/>
            <a:ext cx="8258400" cy="2724480"/>
          </a:xfrm>
          <a:prstGeom prst="rect">
            <a:avLst/>
          </a:prstGeom>
          <a:ln w="0">
            <a:noFill/>
          </a:ln>
        </p:spPr>
      </p:pic>
      <p:sp>
        <p:nvSpPr>
          <p:cNvPr id="1455" name="矩形 76802"/>
          <p:cNvSpPr/>
          <p:nvPr/>
        </p:nvSpPr>
        <p:spPr>
          <a:xfrm>
            <a:off x="1362240" y="3713040"/>
            <a:ext cx="6886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76803"/>
          <p:cNvSpPr/>
          <p:nvPr/>
        </p:nvSpPr>
        <p:spPr>
          <a:xfrm>
            <a:off x="7524720" y="3703680"/>
            <a:ext cx="1079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矩形 76804"/>
          <p:cNvSpPr/>
          <p:nvPr/>
        </p:nvSpPr>
        <p:spPr>
          <a:xfrm>
            <a:off x="952560" y="4265640"/>
            <a:ext cx="1890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8" name="图片 89089" descr=""/>
          <p:cNvPicPr/>
          <p:nvPr/>
        </p:nvPicPr>
        <p:blipFill>
          <a:blip r:embed="rId1"/>
          <a:stretch/>
        </p:blipFill>
        <p:spPr>
          <a:xfrm>
            <a:off x="490680" y="1471680"/>
            <a:ext cx="8162640" cy="3914640"/>
          </a:xfrm>
          <a:prstGeom prst="rect">
            <a:avLst/>
          </a:prstGeom>
          <a:ln w="0">
            <a:noFill/>
          </a:ln>
        </p:spPr>
      </p:pic>
      <p:sp>
        <p:nvSpPr>
          <p:cNvPr id="1459" name="矩形 89090"/>
          <p:cNvSpPr/>
          <p:nvPr/>
        </p:nvSpPr>
        <p:spPr>
          <a:xfrm>
            <a:off x="7812000" y="4941720"/>
            <a:ext cx="50508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0" name="图片 90113" descr=""/>
          <p:cNvPicPr/>
          <p:nvPr/>
        </p:nvPicPr>
        <p:blipFill>
          <a:blip r:embed="rId1"/>
          <a:stretch/>
        </p:blipFill>
        <p:spPr>
          <a:xfrm>
            <a:off x="571680" y="1604880"/>
            <a:ext cx="8001000" cy="364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91137" descr=""/>
          <p:cNvPicPr/>
          <p:nvPr/>
        </p:nvPicPr>
        <p:blipFill>
          <a:blip r:embed="rId1"/>
          <a:stretch/>
        </p:blipFill>
        <p:spPr>
          <a:xfrm>
            <a:off x="533520" y="1057320"/>
            <a:ext cx="8076960" cy="4743360"/>
          </a:xfrm>
          <a:prstGeom prst="rect">
            <a:avLst/>
          </a:prstGeom>
          <a:ln w="0">
            <a:noFill/>
          </a:ln>
        </p:spPr>
      </p:pic>
      <p:sp>
        <p:nvSpPr>
          <p:cNvPr id="1462" name="矩形 91138"/>
          <p:cNvSpPr/>
          <p:nvPr/>
        </p:nvSpPr>
        <p:spPr>
          <a:xfrm>
            <a:off x="7740720" y="270828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92161" descr=""/>
          <p:cNvPicPr/>
          <p:nvPr/>
        </p:nvPicPr>
        <p:blipFill>
          <a:blip r:embed="rId1"/>
          <a:stretch/>
        </p:blipFill>
        <p:spPr>
          <a:xfrm>
            <a:off x="1324080" y="2290680"/>
            <a:ext cx="649584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4" name="图片 93185" descr=""/>
          <p:cNvPicPr/>
          <p:nvPr/>
        </p:nvPicPr>
        <p:blipFill>
          <a:blip r:embed="rId1"/>
          <a:stretch/>
        </p:blipFill>
        <p:spPr>
          <a:xfrm>
            <a:off x="476280" y="1800360"/>
            <a:ext cx="8191440" cy="3257280"/>
          </a:xfrm>
          <a:prstGeom prst="rect">
            <a:avLst/>
          </a:prstGeom>
          <a:ln w="0">
            <a:noFill/>
          </a:ln>
        </p:spPr>
      </p:pic>
      <p:sp>
        <p:nvSpPr>
          <p:cNvPr id="1465" name="矩形 93186"/>
          <p:cNvSpPr/>
          <p:nvPr/>
        </p:nvSpPr>
        <p:spPr>
          <a:xfrm>
            <a:off x="6924600" y="2865600"/>
            <a:ext cx="7430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93187"/>
          <p:cNvSpPr/>
          <p:nvPr/>
        </p:nvSpPr>
        <p:spPr>
          <a:xfrm>
            <a:off x="1403280" y="3986280"/>
            <a:ext cx="86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7" name="图片 94209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8086680" cy="3181680"/>
          </a:xfrm>
          <a:prstGeom prst="rect">
            <a:avLst/>
          </a:prstGeom>
          <a:ln w="0">
            <a:noFill/>
          </a:ln>
        </p:spPr>
      </p:pic>
      <p:pic>
        <p:nvPicPr>
          <p:cNvPr id="1468" name="图片 94210" descr=""/>
          <p:cNvPicPr/>
          <p:nvPr/>
        </p:nvPicPr>
        <p:blipFill>
          <a:blip r:embed="rId2"/>
          <a:stretch/>
        </p:blipFill>
        <p:spPr>
          <a:xfrm>
            <a:off x="826920" y="4292640"/>
            <a:ext cx="7581960" cy="2171520"/>
          </a:xfrm>
          <a:prstGeom prst="rect">
            <a:avLst/>
          </a:prstGeom>
          <a:ln w="0">
            <a:noFill/>
          </a:ln>
        </p:spPr>
      </p:pic>
      <p:sp>
        <p:nvSpPr>
          <p:cNvPr id="1469" name="矩形 94211"/>
          <p:cNvSpPr/>
          <p:nvPr/>
        </p:nvSpPr>
        <p:spPr>
          <a:xfrm>
            <a:off x="4514760" y="481824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矩形 94212"/>
          <p:cNvSpPr/>
          <p:nvPr/>
        </p:nvSpPr>
        <p:spPr>
          <a:xfrm>
            <a:off x="2124000" y="5418000"/>
            <a:ext cx="1152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1000"/>
                                        <p:tgtEl>
                                          <p:spTgt spid="14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10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88065" descr=""/>
          <p:cNvPicPr/>
          <p:nvPr/>
        </p:nvPicPr>
        <p:blipFill>
          <a:blip r:embed="rId1"/>
          <a:stretch/>
        </p:blipFill>
        <p:spPr>
          <a:xfrm>
            <a:off x="509760" y="1276200"/>
            <a:ext cx="8124480" cy="43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1" name="图片 95233" descr=""/>
          <p:cNvPicPr/>
          <p:nvPr/>
        </p:nvPicPr>
        <p:blipFill>
          <a:blip r:embed="rId1"/>
          <a:stretch/>
        </p:blipFill>
        <p:spPr>
          <a:xfrm>
            <a:off x="757080" y="728640"/>
            <a:ext cx="7629840" cy="5400720"/>
          </a:xfrm>
          <a:prstGeom prst="rect">
            <a:avLst/>
          </a:prstGeom>
          <a:ln w="0">
            <a:noFill/>
          </a:ln>
        </p:spPr>
      </p:pic>
      <p:sp>
        <p:nvSpPr>
          <p:cNvPr id="1472" name="矩形 95234"/>
          <p:cNvSpPr/>
          <p:nvPr/>
        </p:nvSpPr>
        <p:spPr>
          <a:xfrm>
            <a:off x="5657760" y="5056200"/>
            <a:ext cx="15782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矩形 95235"/>
          <p:cNvSpPr/>
          <p:nvPr/>
        </p:nvSpPr>
        <p:spPr>
          <a:xfrm>
            <a:off x="5762520" y="5618160"/>
            <a:ext cx="9702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1000"/>
                                        <p:tgtEl>
                                          <p:spTgt spid="14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4" name="图片 96257" descr=""/>
          <p:cNvPicPr/>
          <p:nvPr/>
        </p:nvPicPr>
        <p:blipFill>
          <a:blip r:embed="rId1"/>
          <a:stretch/>
        </p:blipFill>
        <p:spPr>
          <a:xfrm>
            <a:off x="533520" y="1442880"/>
            <a:ext cx="8076960" cy="397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5" name="图片 97281" descr=""/>
          <p:cNvPicPr/>
          <p:nvPr/>
        </p:nvPicPr>
        <p:blipFill>
          <a:blip r:embed="rId1"/>
          <a:stretch/>
        </p:blipFill>
        <p:spPr>
          <a:xfrm>
            <a:off x="1238400" y="1433520"/>
            <a:ext cx="666720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6" name="图片 98305" descr=""/>
          <p:cNvPicPr/>
          <p:nvPr/>
        </p:nvPicPr>
        <p:blipFill>
          <a:blip r:embed="rId1"/>
          <a:stretch/>
        </p:blipFill>
        <p:spPr>
          <a:xfrm>
            <a:off x="747720" y="1128600"/>
            <a:ext cx="7648560" cy="4600800"/>
          </a:xfrm>
          <a:prstGeom prst="rect">
            <a:avLst/>
          </a:prstGeom>
          <a:ln w="0">
            <a:noFill/>
          </a:ln>
        </p:spPr>
      </p:pic>
      <p:sp>
        <p:nvSpPr>
          <p:cNvPr id="1477" name="矩形 98306"/>
          <p:cNvSpPr/>
          <p:nvPr/>
        </p:nvSpPr>
        <p:spPr>
          <a:xfrm>
            <a:off x="4629240" y="1712880"/>
            <a:ext cx="50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98307"/>
          <p:cNvSpPr/>
          <p:nvPr/>
        </p:nvSpPr>
        <p:spPr>
          <a:xfrm>
            <a:off x="5553000" y="4008600"/>
            <a:ext cx="747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98308"/>
          <p:cNvSpPr/>
          <p:nvPr/>
        </p:nvSpPr>
        <p:spPr>
          <a:xfrm>
            <a:off x="3581280" y="4579920"/>
            <a:ext cx="747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98309"/>
          <p:cNvSpPr/>
          <p:nvPr/>
        </p:nvSpPr>
        <p:spPr>
          <a:xfrm>
            <a:off x="1562040" y="5132520"/>
            <a:ext cx="747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2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7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2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99329" descr=""/>
          <p:cNvPicPr/>
          <p:nvPr/>
        </p:nvPicPr>
        <p:blipFill>
          <a:blip r:embed="rId1"/>
          <a:stretch/>
        </p:blipFill>
        <p:spPr>
          <a:xfrm>
            <a:off x="790560" y="1981080"/>
            <a:ext cx="7562880" cy="2895840"/>
          </a:xfrm>
          <a:prstGeom prst="rect">
            <a:avLst/>
          </a:prstGeom>
          <a:ln w="0">
            <a:noFill/>
          </a:ln>
        </p:spPr>
      </p:pic>
      <p:sp>
        <p:nvSpPr>
          <p:cNvPr id="1482" name="矩形 99330"/>
          <p:cNvSpPr/>
          <p:nvPr/>
        </p:nvSpPr>
        <p:spPr>
          <a:xfrm>
            <a:off x="5886360" y="2550960"/>
            <a:ext cx="113364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矩形 99331"/>
          <p:cNvSpPr/>
          <p:nvPr/>
        </p:nvSpPr>
        <p:spPr>
          <a:xfrm>
            <a:off x="2095560" y="4265640"/>
            <a:ext cx="60480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9" dur="1000"/>
                                        <p:tgtEl>
                                          <p:spTgt spid="14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4" dur="10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87041" descr=""/>
          <p:cNvPicPr/>
          <p:nvPr/>
        </p:nvPicPr>
        <p:blipFill>
          <a:blip r:embed="rId1"/>
          <a:stretch/>
        </p:blipFill>
        <p:spPr>
          <a:xfrm>
            <a:off x="519120" y="985680"/>
            <a:ext cx="810576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6" name="图片 86017" descr=""/>
          <p:cNvPicPr/>
          <p:nvPr/>
        </p:nvPicPr>
        <p:blipFill>
          <a:blip r:embed="rId1"/>
          <a:stretch/>
        </p:blipFill>
        <p:spPr>
          <a:xfrm>
            <a:off x="490680" y="2023920"/>
            <a:ext cx="816264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7" name="图片 84993" descr=""/>
          <p:cNvPicPr/>
          <p:nvPr/>
        </p:nvPicPr>
        <p:blipFill>
          <a:blip r:embed="rId1"/>
          <a:stretch/>
        </p:blipFill>
        <p:spPr>
          <a:xfrm>
            <a:off x="490680" y="828720"/>
            <a:ext cx="816264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8" name="图片 83969" descr=""/>
          <p:cNvPicPr/>
          <p:nvPr/>
        </p:nvPicPr>
        <p:blipFill>
          <a:blip r:embed="rId1"/>
          <a:stretch/>
        </p:blipFill>
        <p:spPr>
          <a:xfrm>
            <a:off x="611280" y="1557360"/>
            <a:ext cx="7924680" cy="3800520"/>
          </a:xfrm>
          <a:prstGeom prst="rect">
            <a:avLst/>
          </a:prstGeom>
          <a:ln w="0">
            <a:noFill/>
          </a:ln>
        </p:spPr>
      </p:pic>
      <p:sp>
        <p:nvSpPr>
          <p:cNvPr id="1439" name="矩形 83970"/>
          <p:cNvSpPr/>
          <p:nvPr/>
        </p:nvSpPr>
        <p:spPr>
          <a:xfrm>
            <a:off x="7667640" y="263700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图片 8294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8105760" cy="1076400"/>
          </a:xfrm>
          <a:prstGeom prst="rect">
            <a:avLst/>
          </a:prstGeom>
          <a:ln w="0">
            <a:noFill/>
          </a:ln>
        </p:spPr>
      </p:pic>
      <p:pic>
        <p:nvPicPr>
          <p:cNvPr id="1441" name="图片 82946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7915320" cy="2943360"/>
          </a:xfrm>
          <a:prstGeom prst="rect">
            <a:avLst/>
          </a:prstGeom>
          <a:ln w="0">
            <a:noFill/>
          </a:ln>
        </p:spPr>
      </p:pic>
      <p:sp>
        <p:nvSpPr>
          <p:cNvPr id="1442" name="矩形 82948"/>
          <p:cNvSpPr/>
          <p:nvPr/>
        </p:nvSpPr>
        <p:spPr>
          <a:xfrm>
            <a:off x="4716360" y="2421000"/>
            <a:ext cx="50508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81921" descr=""/>
          <p:cNvPicPr/>
          <p:nvPr/>
        </p:nvPicPr>
        <p:blipFill>
          <a:blip r:embed="rId1"/>
          <a:stretch/>
        </p:blipFill>
        <p:spPr>
          <a:xfrm>
            <a:off x="471600" y="1805040"/>
            <a:ext cx="8200800" cy="3247920"/>
          </a:xfrm>
          <a:prstGeom prst="rect">
            <a:avLst/>
          </a:prstGeom>
          <a:ln w="0">
            <a:noFill/>
          </a:ln>
        </p:spPr>
      </p:pic>
      <p:sp>
        <p:nvSpPr>
          <p:cNvPr id="1444" name="矩形 81922"/>
          <p:cNvSpPr/>
          <p:nvPr/>
        </p:nvSpPr>
        <p:spPr>
          <a:xfrm>
            <a:off x="7740720" y="3500280"/>
            <a:ext cx="50472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80897" descr=""/>
          <p:cNvPicPr/>
          <p:nvPr/>
        </p:nvPicPr>
        <p:blipFill>
          <a:blip r:embed="rId1"/>
          <a:stretch/>
        </p:blipFill>
        <p:spPr>
          <a:xfrm>
            <a:off x="423720" y="1333440"/>
            <a:ext cx="8296560" cy="41911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80898"/>
          <p:cNvSpPr/>
          <p:nvPr/>
        </p:nvSpPr>
        <p:spPr>
          <a:xfrm>
            <a:off x="1695600" y="2494080"/>
            <a:ext cx="50472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80899"/>
          <p:cNvSpPr/>
          <p:nvPr/>
        </p:nvSpPr>
        <p:spPr>
          <a:xfrm>
            <a:off x="1332000" y="3016080"/>
            <a:ext cx="792000" cy="4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14T01:49:56Z</dcterms:modified>
  <cp:revision>2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