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FBFB-0860-4626-99F3-2E9AADB7E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1617-2BD5-45D4-83ED-8FA88BC76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6E272C9-D84B-4B0E-973D-D99AF029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7DE6FF-8543-4174-974C-C4AD2C7B3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ADAB42-61BE-4CC2-9F3C-25663ACF6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275F3-A0C7-44BC-B7E2-870EA3E4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2EF2A1-BBE8-48CE-8556-7D07BF67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76CE05-CD6D-44B2-B7E3-15F2E037A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F34528-5604-4637-962B-6686343C4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34AD11-850B-4E4A-A446-739EA5035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89EC52-5172-4749-9BE0-C94CA7B01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69537F-5F2E-4511-B829-D14E44AB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DB48-B49C-4634-8A0D-647A2AF6D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DBF7CF-F776-43DD-8D52-1E4A30C2B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339A7F-6E2F-4540-9726-F7483D8F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CEB689-A104-4E9F-AAF6-AE7C5035D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F04ECA-D092-4E85-B54A-580CD659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9F4FA-5B18-447C-80B0-FF1BE233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D3F740-75C3-4F50-B095-9A1AF51C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795FB6-DA0A-4645-869C-BE260698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24ACB2-E590-4C91-9788-53831EEA8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0A49A0-2832-4200-BBA0-F30811ACB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063CFA-40E9-4423-B273-088B1892A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2E84-28C3-4B74-ACC7-EF5212073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9716AA-E578-4510-A301-6538F667A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FF622-083C-4DB3-982D-F324A818D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DC530E-5FC7-4EAB-839E-D42EA8BA0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6DA51F-ADBB-48C7-A507-452A1DA62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921752-628F-4263-8111-3453A6863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FAE117-15D5-4750-97BF-4CEE65D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300690-A875-4E5B-832A-921463AE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EDF0FE-968E-4DAA-9FE5-B4403F96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806CEC-0BCF-411E-9280-067345602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91EE76-4F14-4650-8579-755F23B97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DA34A-025C-4513-9033-A8EF4E10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EF36C-94B1-40BD-9476-D90D1DD0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E93203-D4C4-4CAC-9F5A-D17CD9948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DD8F2-70C0-4DFB-8DDD-BE0055A78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E8E31-CCA0-4888-972B-4A01E0A50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BDF22F-BAF3-4AE0-AE40-A820845A0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52147-AECC-4CEB-89A8-B9E6D5779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0B226-E484-4C39-AD08-25837C76C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4BC80F-02EB-4ECA-8B97-88FBBDF0A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AD5BA-32D4-46FE-BEA7-3177BE3F2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B426A-DDB4-4A2A-B945-C3FA959A0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A2180-F75F-4862-8833-77B9AFF36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B724BC-9E90-4FDC-A459-E0066D2D0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5D896C8-A03D-4E18-9EBA-FC3BC145C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09CF76-1BF4-4537-8FC9-A4F29CFD8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A37C98-3B18-4862-94A4-C4E1E9C18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F42777-B088-42E0-A475-30C97B5A0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9BD63E-B513-4419-87B2-9410A9273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29C33D-E180-4E5E-8686-C39AD0941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485E0C-03C1-4A2E-84A6-5B98E6EFC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C8BEDD-B4C1-4CB5-B83B-E83B9AADE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135E75-9594-40C8-AA7E-A4B871753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C2F28-3E3B-4FEA-80E2-9664306FD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2919BE-077E-4DB3-B074-DBB63E43B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11E7CC-4169-4331-9A3B-53FBF92CC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195BA2-51A9-432A-AEC0-70BDDE89E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251C48-F124-4CE9-B7A6-26C504EC5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075AF-3122-4061-BD98-E0330FB30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09643F-B80C-4C2E-A632-B95407E60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FA105B-ABAE-4531-88D6-5B428385E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57F93E-CDAE-4F0B-9FA0-620CA0FE0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46BFE0-303D-4DE3-8938-3C0904C97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63F5EE-3A19-40DB-84C6-E87497B66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DE4C7-ECB4-4110-8D9B-641F30586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64B9A2-716D-4B0B-B5E6-E256AE273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020B3-13FA-41E3-884D-BB631FBE8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C39D779-0651-4EB2-9344-E53088292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4D9903-70C6-405B-9FD7-736CB6F3B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3FA878A-8B59-4DD6-8685-31AFCBC1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D36A38-19A9-4CF9-8F82-2452D296B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46E841-E743-4298-BB94-394099B4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AD16D8-E3FB-4466-93CB-8221F3F5A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E3774E-D343-45C0-B249-BF1F3432E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9B988B5-CA11-4A63-B461-AD689DBC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A9939-85A0-44DC-8428-D84A51FC4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83B80B-B9D7-4F8D-9F47-69943C423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BEF4D4-7232-4047-881E-364BEF350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3D672D-2581-4DCB-AB1D-90E0CCEA7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5559E0-76E5-45D6-A502-B549BA48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0EDF6F-649A-47BF-B0CA-90B285033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B02867-E74F-4991-9093-813D966F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1F74D6-43D2-494C-BE20-EC1F809DF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236EED-877D-4CF7-AC3A-BFCB6A7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9E64B-58FE-4558-B0BA-EC25E3D8E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516268-019B-4032-A017-266A417B5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1226-801E-4AA8-B49E-DB08D7656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1FFE94-53A3-4544-B8E0-BC9336DC7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206A4F-791E-44D9-B945-1F770BF45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BE999C-DD6A-43C2-84C4-C88E40EDF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7DA787-9B9A-4D2D-BC38-1EB4A2336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4D41D6-9A8F-48C4-BF3C-0C672EAA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F9C978-5D5D-4BDA-803A-6F6010796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D4A80-40F7-4789-A471-9920914E5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0DC018-840A-402D-85B0-3758C32B1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D113B8F-FE7E-4108-88CD-6DB87784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72AF52D-E848-471B-B506-470B0AB20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5D3AF-4617-47A5-9B98-B335D24C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4BDE04-5C2A-4DB7-9DA4-EFF4904CD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308242-8C75-41F3-A527-934CD0D5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67E23F6-54A9-4F7A-A7D3-263C74739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1A43E0-6AE3-4C49-9B85-CD8291633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7336A42-89A8-4BEF-A1E7-7810AEAF7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B3A07E-1CA6-4C48-BA07-0EC687D5E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8AD56E-8565-4967-AD74-2C8248C3F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5635817-A3A5-44C4-B006-7EF6017C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DEFE5-5A12-4641-BA3F-9B88C34DF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DB1348B-688F-4CDF-9923-32E3602C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2DC-F489-4B02-A9DE-8FD51E53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D487A8-CE80-4E52-93E8-1BCE5F167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5549901-2D1B-4C58-81AB-97124DA79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0C8D3C-AFD8-40C9-822B-A2CBB676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285761-BFF0-42A0-B46C-588BC6004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340E3B-EBB0-40CB-B695-2F552C15E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34B982D-49C4-4682-B963-DFA524290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6D710-C7F2-4194-9BD4-2B4B25EB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BAFD00-993E-42AF-8686-A089674F1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BAD1469-4A9B-479A-8CF0-7E894D64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E2D767-E4DA-448B-A353-AB8F50C01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858019-D835-4DE6-9760-EBAE0C069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4CD-9926-487F-B508-65AD7F26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E4025C0-9FFA-4A67-8E81-4DA2929C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51F546-A4A2-4423-8EA1-535972500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556641-D492-414D-86E8-D66527F0D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26ABB2-9046-44F3-8C54-6C0EFAA69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ECEA133-65F6-4883-BF55-34D74265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389392-21CB-4420-8E59-888B4F201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061BDC-8C9C-4455-9B7A-5729511EF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D33B73-93AD-42A0-AA19-D07B664E4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2F8288-3DCB-4AB3-8F31-44A487267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C3125-BA45-440E-9BE5-E89576466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39F4A-A270-42D3-9A58-5224BE938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8CD86F-0062-4AC1-8B09-84D491717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0E4FD03-0824-41CB-8A4F-035BC54605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FE03BA9-5A60-4048-8A7D-D6D4A4429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6A1701-4858-4A62-BEB1-B85228E6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DA65E7-2423-4A89-B911-6B71D4BD2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210ECD6-A80B-4C36-971A-CA23E8A3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ABFA73A-0BF9-40FA-870F-2C34747A6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03E1EC9-1E6A-4DCE-9CFF-1DD604AA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731381-4780-4CCB-8967-A4C20CFF1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99E14C-DEBC-4725-AE2F-1FA7F011F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A4C28-991A-4FD5-B312-6AE24BD2A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3712CF-4C77-43BE-A5E8-581F92B68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C812F1-12C8-46B3-AAED-973F7DA50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F000FC7-DC04-4364-8D7E-9DDCC5902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9DB781-842C-4F35-A97D-9AAC7888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183F1-B837-4EB9-A04D-48B7B5EA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4ADCBF-F960-47B5-B82E-91079344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8EC3595-8C4E-4352-80D5-2FF620CE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DF5087-46C0-4906-90C6-2890FF0EA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3EF58D-A47B-4993-90A5-22D625774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2B2D18-C07D-4115-8346-586600A6F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1D78C-8560-4C02-8380-724CF1C63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93F0C4-7AE6-40F3-883C-1EE677A6C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BAF6D9-D469-4898-A0B8-BA77E65EE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26210FC-1F67-4518-A103-66350267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B8B2FE-F8AD-4108-A07E-94F883548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1E3BCD4-27A6-4A49-8B90-F22EDC2A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E6FD2-B011-4924-9FFD-304DE2674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B0EE870-E222-474C-B8A5-E5D2A8C81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292C54-6ED8-43CF-B47F-90956F943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54D20-0CE4-4409-8F18-063ED382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18F8AF-B4F4-49C7-831F-2B46D2E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7AFC0B-E341-4EF8-AC7A-5287D0D74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F6AE6-97F8-4949-8890-804FC1F21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CEB086D-05F4-40DE-A2B5-AADB7062F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ADB895-7ADC-4A24-88B0-08B81EE23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DD195F-8303-4920-8C59-8B3982732A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877D7B-1EF7-49F0-860A-49699904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6947698-DA94-460B-B683-606272BCD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4B495B0-C7F4-42F1-8717-89D76478E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B8763E-60CA-49FA-BC14-027FA98CC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03E070-5355-4562-B488-0688A118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746B66-4E5C-4C0A-88F4-863F3C602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F8179-BEB2-4432-9E79-E76C30C61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CE85A1C-9E1C-407D-BD44-FDD542789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1900907-47E7-4F92-A78C-00F9F862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DA7E93-F4DB-4BCD-98B3-27490BAB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78E1ABA-E8C3-4FE0-8B60-59FB20807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72C8191-C2E8-41BF-A447-C559F5CA1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063FA01-911A-458E-9029-69EE8D9C9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39DFAB3-22AB-47AB-AEE2-C53E41510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74E9A7-3092-4AE7-B57F-A16E30D32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5E01F-8717-4224-9E37-F0D2C19A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ABF102-2507-4043-9C3B-2CE4A7FAC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2BF385-0F8D-49E7-879F-708964A28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075110C-CE0F-43F8-8FE1-F5F831B2B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D1638EB-4D88-4FDD-BE24-B05B1453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45F250-3299-437D-96E1-73F3ECBF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96DA99-63BB-4954-AA1A-7CB90576C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698BD9E-FE2E-40D1-AD3F-C9A5D59CB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D5203C7-DB50-4CDC-BABB-47ECD3711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3034E77-2D14-43E8-8636-C26732632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A72EBCF-293C-4A3C-A3B2-423FE74DF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9C0DEC-AD99-44FB-9B90-CB0AF934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CB0067-4D82-4ED1-A039-AB67C0374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24DE3-67D3-410C-8B70-50BF94D1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08A8F36-24A8-4F22-BAD0-00A3FA1FD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F58F635-66FF-4971-B730-3D438C652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0AD70B0-E1A1-495D-8D77-474BD8EA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DE7164-2E78-48D5-A9DC-980CB4530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6E5279-2B82-4E45-AEBC-8B7A3ABB2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247E504-517B-4A34-89D1-7091C9438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C8A24BC-39A7-4974-9C50-150BA56E6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F2E933-7098-48EB-A09E-0C3E6ED67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2178415-52B1-456B-ADAE-952BD0A7E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9148319-29DF-4050-A54A-4226601EC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5BF1DA-9152-421D-8C46-21D801404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9267C21-0F9F-44A9-825A-0C46D3817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7B41492-E67B-424F-BC65-EDB861984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1C40062-AAE4-4AC6-AB91-671DD6195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EED1D4-2D2B-451E-B629-5078A5B5F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12D5AA3-8828-4A9A-AE8D-38EFE5E5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823BFF-0A0B-4A0B-BFB5-DE156AA5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342E6D-93EA-4868-AF55-206890339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7D5D6D-DB41-4B81-AAA7-E790EF698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B0A6C1D-122D-4011-8E8C-65313BBCD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8E1D818-9ECC-4107-BACC-314D377A4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7027-D612-48DC-945D-145DEC8B8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9FF56-E0AF-4496-BBF6-8DC3AC6DD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967E77-4AFF-4954-B42F-DB5F70813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365F341-61EC-41B6-86B0-7D8069EA7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5472F8-3668-4696-ABFC-0FDD732B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AB824D-2F91-47BD-B8C8-14AA419C6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AD4347-22C5-4461-AF97-69A63039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C7603A-7B03-49B7-9C4C-B357BA8D7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13897D-C2F2-4EA6-88D6-6B4A0EA05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27F90A2-6D52-4211-9349-7BDF7861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74F35E-1D7A-46AC-82E7-CA652D7EF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0B2DD4-1A6A-4A75-8035-6B370F76B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4EF7F-9275-40BA-8ABA-E120B628D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C52A869-7681-4D35-B304-056715DE5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D36A113-F877-4BA2-BF9D-2FE9490B3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1384F0E-52C7-4645-B58D-D5559E7C2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DF0F0B0-B986-43E5-9B43-43D45F609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6B2BCBE-CA46-4B2A-9C11-59C2B7D9F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14026193-A8CD-4580-89B5-24EEA31E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B13437A-FDAB-476C-A217-6225B4FEF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98F520E-BC45-4EE9-9BEB-FB7F309C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731D9B3-AFA3-4236-B6B3-5CE5DE2CC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F18492-E76A-4722-B9D6-965CFA063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037FA-FEBE-469A-997C-0681DB2A7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ADF993-B04D-4941-A15A-B6FD70A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A970D5F-5EA7-4FC1-9A00-E2B85A460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F4042CF-6050-453E-84AF-94BAEE68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1627575-CCC9-4903-8FC0-DC53C55A5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827C2E7-5557-49EC-8E50-F0C7CBF7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543DC2-E428-4B04-A5CE-57A15C2382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435A067-E943-4E92-AB03-6D2E71DAE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EB67563-C58A-45EC-807E-B1FA18A6B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AFA13C-7166-4478-AEAC-FB5E6709C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79C977A-DDED-4F18-A3BF-999B9E666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7BC39-7B37-4464-A7A5-C1D2F2A2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FAB9835-D838-463C-B630-87BDFA532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9E89D60-000B-4439-9698-61869FD9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5A64A1F-461A-47A2-8CC4-6AD48990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FFCB478-ADB7-40D8-BD61-4BF062F48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495CD3-B2A5-4143-9C56-B02FB0D69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A7E64F-ADBC-4C06-9631-C1F6554E78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2D112C5-4D8A-43B7-ABFC-961DCB65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B300B4-4F4C-4D8D-BA4C-845E8AB8A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67F8FD-9D43-42DA-B3A4-659AD9FC5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03FA61-4861-496B-A265-5C6EFA2CC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64E514-2D67-4BC8-BD95-04B26FD72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C3BE2D6-1FEA-4F9A-99B3-338DEF86F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A1066A-CFE1-4AF9-A1C0-F54D0836E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E46B2A9-660E-4873-9290-F360F9A5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745C316-9368-4AC0-91A9-B9C0E02C3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06934A5-82FE-4BC1-8E99-60A672E7F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ABBB16E-5D83-4ECE-A0E8-D4509C5EF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519D8D8-F7FF-4AC8-902C-997957ADA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FAC24D-9382-4FAD-B5FA-B0D252503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EED7C41-9FF4-4943-B260-28C531ED6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322648C-149B-49A0-9F86-1F8547B2E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251D3B-3F26-4431-BB8A-7E0E63E53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922719D-2CBF-4F68-9A79-FFA40EC0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59F5B88-5E57-4878-8ACA-42EEBEA6A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89EE94E-9AC2-4299-B79D-E216BD805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61885B-41F8-486C-AFE3-5B545F91A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DCDF1A4-059F-419D-88FB-9ADE7FEEB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4DB4832-DA71-48E4-A1A0-C4CBA45E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D8864A8-2A3A-48C5-BC73-9AE8F7133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433DC6C-E3D1-4281-AEC8-31B75D8C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95CFC2-EC77-40AF-A7E4-3B28C5891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2CD5D9-C09E-4F6B-B247-B0FFB9E1B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FD2F7-8BFA-4CE4-8FF1-95B41E1E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00ABFB-C9C8-44A8-B429-108073150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5AF7AC-7231-4B30-94AF-14D5B0755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DE0B0F-861A-4322-8059-344BF935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A2DBE16-5D81-457A-BE60-37D6CEDEC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CF4A546-AF36-4D16-9322-32608CDC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3C94C3-918D-4F73-8E8B-8263522162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B58455A-4EE9-4198-AE8B-00AE5702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A8A15F6-3BD2-4504-AC08-7B389841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E8D3006-0AED-4E7E-B619-9C7D7E86F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2CC9CDA-4E18-4917-9259-56738CB4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ECFC9-64EB-431C-98B3-102CFD3D4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D6056F-3F24-4070-BD89-960043A8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4A11D16-6DA5-4156-823A-B9E335F1F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CEA1191-EA37-4CD9-B0D2-0AA6B94B8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CE6B2-B699-4B94-91BC-F5AA74472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E69BE-BA0A-4178-A929-094218D86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3143D-E278-4113-9215-682E0E28F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841DFD-76E7-4143-98AD-779162A37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D3BCA7-8426-4717-8EAF-C678F9B82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A3424-CB33-41DE-8DF7-4923249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A3C6DA-07BB-463E-B9FE-64CA8C5D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08C9AB-5098-434C-8719-853C22725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E71530-69F3-4AE7-90BC-4147BB84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AFB44-A364-48AF-97A9-77AE47F4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9EA29-DB4A-47EE-8171-FE57AA720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A3B6D-BE7C-4E16-AD33-CF7FD4BA5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76AA5D-2D48-4F78-BB85-BBA9D6B23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5E1F-9F19-430A-8E01-C84E947D0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285A8D-E057-4C3E-A8BF-F111DCCC7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6DF22B-0A2C-4CB3-8CD4-3E6252EC7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72510E-990A-4FF4-B52C-123360AE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26036-9331-4A01-948E-B584C038C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E2DE4-B46B-430A-BE38-B84927A4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902A0D-0CCB-4677-AD9C-C8D350F9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9D89D-5D8F-400C-A784-880F736BD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6D605D-C87E-4378-BA40-FA4E2ED98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AB3019-801F-4EF8-89A5-9200B97C6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86462-9DA8-4C52-B948-8E7E686DC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678A8-B75F-4277-859D-DC646D03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3EB22B-3DFF-4C3E-89FF-1B7C017D6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ACA3CB-B9E9-4AEA-AB16-9E87CE3B9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808775-F9D9-445B-BEB0-63D864FB6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6E051-98F7-441D-AFA2-0E3B891B1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3D9A7-392E-4A5C-AF2F-CEE43A206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DFC4F-1D8D-4FD6-BEFE-282525328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9D4D4B-F515-484E-AC3B-0A20F04E7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9C388-C164-4F21-A14E-F9E9F33E2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83E691-7F42-4DCE-83B3-241AE3A2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56C00A-D74D-4A76-BFBB-FFC53AEA9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90224-1339-40DA-82F2-57584321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8A3365-D5F3-49AF-90D1-9F9A6BD4D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35DAD1-F7C5-44D5-84F9-D05BA1D3D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E6D72-812F-4696-A3A1-8713625DF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F0EAE8-546C-4BEB-B5EC-E75811DFF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7CFE76-88FD-4B8C-BD24-2C59FAAB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D887A0-7EB4-4158-B243-CD60335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22320-273D-4007-A813-E46B6EE32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9569F7-E16E-4023-8D70-864077D25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759079-0492-4CD0-8611-6EED6ADA6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C54BB6-F11E-4D7C-A776-801986F61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01E7-3388-4690-A753-BF42E2C9F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BAB033-B311-4290-8967-1721B9B30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FE2CE-A621-4BEE-805D-3FCE4CA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40B8F1-B52B-4E4B-B91D-3133656DA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578DE-FA76-4524-BAC0-BCD34542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34CBC-D8BD-4CA3-8883-FC2C5C64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AB7702-A885-4BA0-A42A-5B8880437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53AFEB-AE2B-4E4C-B662-2358A99CD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1C840-89EC-4CAF-AB00-E6E292002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4CFF05-4AB2-459C-91C6-25D339C5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33D9A6-1813-4BAC-8284-CFDF145A3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A37-BF5A-47C4-A483-0E6F7374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56C1A0-71E2-47DD-846B-348F06C53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5069E0-915E-43B7-9C45-C02F984B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0F0EDD-DDD2-43A3-ADE9-581EF86E4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DBD765-4643-4CB0-A562-4B4FB7E1B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4D9BED-3341-4369-A987-818C84B43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34F3DA-06B7-4075-AECE-BF9E8B106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A93FB0-1607-4BEE-8683-C78A8486B3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17C53E-A1F3-4D59-A993-BF2DBBAF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167E39-8CF3-428E-8B25-2499850B9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41235A-FFE7-46A3-91E9-E0C8FF18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E0B13-FC61-4A46-BD3E-67C380FF8DF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7CBA5-91D7-4371-98B8-2797BFDA01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D1BEC-0CCD-49BF-968C-595AFB5B8A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78F7-9EBB-4F7A-8237-0DBC0FE6DA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56233-4D76-4672-82D9-1AC5733E68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C75B8-1853-4C41-9E1D-FBA5C7CB844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F9D72-23D6-48FC-BE12-C56CE215C3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2E78-99B9-4478-BE68-7F249412926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8C26-29CC-46CE-AD7B-7A32151E993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B8D9-2BE8-4919-A7C3-4E7759D091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42EA-66CC-4758-911F-4C3DC50E24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C2FEE-4C59-4D49-B994-43332A69868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5E26-6F39-443F-8D60-08B2C973352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81684-D917-4F35-BB66-6E8C097AC0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EFFB9-C8B1-4F0D-A572-A5AD9DB29C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70A2E-0B25-4196-93AA-D57E197B5E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6C28-2822-4919-8E3D-6C86CE9FBA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65068-BBD0-43A0-87B3-B22B7532B9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624B-62B2-4B1F-80E4-381EC6FC32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E2392-7916-456D-B53B-7F98668831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4C787-CBFE-4C9A-8F1D-4AD95ECD33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87009-D450-46B2-AFA4-B885146076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5E242-7086-4F6D-A293-399C75D7070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4F9ED-1C39-4464-ABBE-AF0CCE60AB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E73DC-045D-4414-8FDE-8C4DA960EEA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45A4-FFB8-4FA1-82E7-886C6C245C5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009A1-F539-4271-821D-96AC6748E24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1EC5A-1869-4C7F-BFDD-78F247B5BA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BCFB7-D8B9-4FEB-AB23-0A37BC4F885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ED86-42A9-4CC9-878C-DD4453215B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4D30C-9190-4420-B8D0-5FCD53162C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A7CD5-7C6A-4D39-AA22-B69B7AB0C5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944-CA4E-448F-96BC-0A39FEB72B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C195-33D9-4147-A716-BDFF6C623C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E3A2-8A9F-4819-BF50-A871AF9C70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6C4A8-6B39-4E2F-857F-B01F8C78D3F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BEF19-A1CC-47CC-8DF6-4F95414CFA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A0585-469E-4488-B5EC-1734BA800B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3B05A-BDF8-41F5-B4A7-D99EBCBFCC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6FC89-AE0F-4254-BA0A-B3A737329E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64E15-A47F-4696-AA6C-05C02C0438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2E4DF-B04D-46DD-A155-1834237317C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DA0B8-A712-4891-8E37-8F9ED6F1302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991A5-7E9C-4907-9F16-ECD4A259584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CDA4-BCCB-4E6C-A5AE-21D4C49A36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5D17F-C5B9-4766-878E-A08434B1AF6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7DDD4-64D5-468A-963B-9E77535DC12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81D-3517-4A24-8D95-C7BCB73E4A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BF0C1-F2AB-49CC-BDEE-0125E2BC0EB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FF04-80B5-4745-AA46-9797B517C92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1924200" y="3067200"/>
            <a:ext cx="5295600" cy="72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79873" descr=""/>
          <p:cNvPicPr/>
          <p:nvPr/>
        </p:nvPicPr>
        <p:blipFill>
          <a:blip r:embed="rId1"/>
          <a:stretch/>
        </p:blipFill>
        <p:spPr>
          <a:xfrm>
            <a:off x="485640" y="1128600"/>
            <a:ext cx="8172720" cy="4600800"/>
          </a:xfrm>
          <a:prstGeom prst="rect">
            <a:avLst/>
          </a:prstGeom>
          <a:ln w="0">
            <a:noFill/>
          </a:ln>
        </p:spPr>
      </p:pic>
      <p:sp>
        <p:nvSpPr>
          <p:cNvPr id="1474" name="矩形 79874"/>
          <p:cNvSpPr/>
          <p:nvPr/>
        </p:nvSpPr>
        <p:spPr>
          <a:xfrm>
            <a:off x="7740720" y="3645000"/>
            <a:ext cx="5382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7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78849" descr=""/>
          <p:cNvPicPr/>
          <p:nvPr/>
        </p:nvPicPr>
        <p:blipFill>
          <a:blip r:embed="rId1"/>
          <a:stretch/>
        </p:blipFill>
        <p:spPr>
          <a:xfrm>
            <a:off x="1114560" y="2424240"/>
            <a:ext cx="6914880" cy="20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77825" descr=""/>
          <p:cNvPicPr/>
          <p:nvPr/>
        </p:nvPicPr>
        <p:blipFill>
          <a:blip r:embed="rId1"/>
          <a:stretch/>
        </p:blipFill>
        <p:spPr>
          <a:xfrm>
            <a:off x="468360" y="1557360"/>
            <a:ext cx="8096040" cy="1000080"/>
          </a:xfrm>
          <a:prstGeom prst="rect">
            <a:avLst/>
          </a:prstGeom>
          <a:ln w="0">
            <a:noFill/>
          </a:ln>
        </p:spPr>
      </p:pic>
      <p:pic>
        <p:nvPicPr>
          <p:cNvPr id="1477" name="图片 77826" descr=""/>
          <p:cNvPicPr/>
          <p:nvPr/>
        </p:nvPicPr>
        <p:blipFill>
          <a:blip r:embed="rId2"/>
          <a:stretch/>
        </p:blipFill>
        <p:spPr>
          <a:xfrm>
            <a:off x="755640" y="2565360"/>
            <a:ext cx="7829640" cy="1876320"/>
          </a:xfrm>
          <a:prstGeom prst="rect">
            <a:avLst/>
          </a:prstGeom>
          <a:ln w="0">
            <a:noFill/>
          </a:ln>
        </p:spPr>
      </p:pic>
      <p:sp>
        <p:nvSpPr>
          <p:cNvPr id="1478" name="矩形 77827"/>
          <p:cNvSpPr/>
          <p:nvPr/>
        </p:nvSpPr>
        <p:spPr>
          <a:xfrm>
            <a:off x="7740720" y="3068640"/>
            <a:ext cx="43164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4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9" name="图片 76801" descr=""/>
          <p:cNvPicPr/>
          <p:nvPr/>
        </p:nvPicPr>
        <p:blipFill>
          <a:blip r:embed="rId1"/>
          <a:stretch/>
        </p:blipFill>
        <p:spPr>
          <a:xfrm>
            <a:off x="504720" y="1514520"/>
            <a:ext cx="8134560" cy="3828960"/>
          </a:xfrm>
          <a:prstGeom prst="rect">
            <a:avLst/>
          </a:prstGeom>
          <a:ln w="0">
            <a:noFill/>
          </a:ln>
        </p:spPr>
      </p:pic>
      <p:sp>
        <p:nvSpPr>
          <p:cNvPr id="1480" name="矩形 76802"/>
          <p:cNvSpPr/>
          <p:nvPr/>
        </p:nvSpPr>
        <p:spPr>
          <a:xfrm>
            <a:off x="5640480" y="207180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矩形 76803"/>
          <p:cNvSpPr/>
          <p:nvPr/>
        </p:nvSpPr>
        <p:spPr>
          <a:xfrm>
            <a:off x="6145200" y="2997360"/>
            <a:ext cx="101916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矩形 76804"/>
          <p:cNvSpPr/>
          <p:nvPr/>
        </p:nvSpPr>
        <p:spPr>
          <a:xfrm>
            <a:off x="7602480" y="3949560"/>
            <a:ext cx="7858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76805"/>
          <p:cNvSpPr/>
          <p:nvPr/>
        </p:nvSpPr>
        <p:spPr>
          <a:xfrm>
            <a:off x="7745400" y="4406760"/>
            <a:ext cx="7858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矩形 76806"/>
          <p:cNvSpPr/>
          <p:nvPr/>
        </p:nvSpPr>
        <p:spPr>
          <a:xfrm>
            <a:off x="1163520" y="4902120"/>
            <a:ext cx="785880" cy="3733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76807"/>
          <p:cNvSpPr/>
          <p:nvPr/>
        </p:nvSpPr>
        <p:spPr>
          <a:xfrm>
            <a:off x="2792520" y="4892760"/>
            <a:ext cx="1923840" cy="3729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1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6" dur="1000"/>
                                        <p:tgtEl>
                                          <p:spTgt spid="14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6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1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6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6" name="图片 89089" descr=""/>
          <p:cNvPicPr/>
          <p:nvPr/>
        </p:nvPicPr>
        <p:blipFill>
          <a:blip r:embed="rId1"/>
          <a:stretch/>
        </p:blipFill>
        <p:spPr>
          <a:xfrm>
            <a:off x="461880" y="1252440"/>
            <a:ext cx="8220240" cy="4353120"/>
          </a:xfrm>
          <a:prstGeom prst="rect">
            <a:avLst/>
          </a:prstGeom>
          <a:ln w="0">
            <a:noFill/>
          </a:ln>
        </p:spPr>
      </p:pic>
      <p:sp>
        <p:nvSpPr>
          <p:cNvPr id="1487" name="矩形 89090"/>
          <p:cNvSpPr/>
          <p:nvPr/>
        </p:nvSpPr>
        <p:spPr>
          <a:xfrm>
            <a:off x="4932360" y="5157720"/>
            <a:ext cx="82692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3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90113" descr=""/>
          <p:cNvPicPr/>
          <p:nvPr/>
        </p:nvPicPr>
        <p:blipFill>
          <a:blip r:embed="rId1"/>
          <a:stretch/>
        </p:blipFill>
        <p:spPr>
          <a:xfrm>
            <a:off x="652320" y="1057320"/>
            <a:ext cx="7839360" cy="4743360"/>
          </a:xfrm>
          <a:prstGeom prst="rect">
            <a:avLst/>
          </a:prstGeom>
          <a:ln w="0">
            <a:noFill/>
          </a:ln>
        </p:spPr>
      </p:pic>
      <p:sp>
        <p:nvSpPr>
          <p:cNvPr id="1489" name="矩形 90115"/>
          <p:cNvSpPr/>
          <p:nvPr/>
        </p:nvSpPr>
        <p:spPr>
          <a:xfrm>
            <a:off x="3436920" y="1547640"/>
            <a:ext cx="82728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90116"/>
          <p:cNvSpPr/>
          <p:nvPr/>
        </p:nvSpPr>
        <p:spPr>
          <a:xfrm>
            <a:off x="4560840" y="2986200"/>
            <a:ext cx="82728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90117"/>
          <p:cNvSpPr/>
          <p:nvPr/>
        </p:nvSpPr>
        <p:spPr>
          <a:xfrm>
            <a:off x="4684680" y="4890960"/>
            <a:ext cx="827280" cy="365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0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2" name="图片 91137" descr=""/>
          <p:cNvPicPr/>
          <p:nvPr/>
        </p:nvPicPr>
        <p:blipFill>
          <a:blip r:embed="rId1"/>
          <a:stretch/>
        </p:blipFill>
        <p:spPr>
          <a:xfrm>
            <a:off x="485640" y="695160"/>
            <a:ext cx="8172720" cy="5467680"/>
          </a:xfrm>
          <a:prstGeom prst="rect">
            <a:avLst/>
          </a:prstGeom>
          <a:ln w="0">
            <a:noFill/>
          </a:ln>
        </p:spPr>
      </p:pic>
      <p:sp>
        <p:nvSpPr>
          <p:cNvPr id="1493" name="矩形 91138"/>
          <p:cNvSpPr/>
          <p:nvPr/>
        </p:nvSpPr>
        <p:spPr>
          <a:xfrm>
            <a:off x="7780320" y="2319480"/>
            <a:ext cx="392040" cy="3650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4" name="图片 92161" descr=""/>
          <p:cNvPicPr/>
          <p:nvPr/>
        </p:nvPicPr>
        <p:blipFill>
          <a:blip r:embed="rId1"/>
          <a:stretch/>
        </p:blipFill>
        <p:spPr>
          <a:xfrm>
            <a:off x="604800" y="1719360"/>
            <a:ext cx="7934400" cy="34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3" name="图片 88065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2914560" cy="743040"/>
          </a:xfrm>
          <a:prstGeom prst="rect">
            <a:avLst/>
          </a:prstGeom>
          <a:ln w="0">
            <a:noFill/>
          </a:ln>
        </p:spPr>
      </p:pic>
      <p:pic>
        <p:nvPicPr>
          <p:cNvPr id="1434" name="图片 88066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8477280" cy="1857600"/>
          </a:xfrm>
          <a:prstGeom prst="rect">
            <a:avLst/>
          </a:prstGeom>
          <a:ln w="0">
            <a:noFill/>
          </a:ln>
        </p:spPr>
      </p:pic>
      <p:sp>
        <p:nvSpPr>
          <p:cNvPr id="1435" name="矩形 88067"/>
          <p:cNvSpPr/>
          <p:nvPr/>
        </p:nvSpPr>
        <p:spPr>
          <a:xfrm>
            <a:off x="5435640" y="28526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矩形 88068"/>
          <p:cNvSpPr/>
          <p:nvPr/>
        </p:nvSpPr>
        <p:spPr>
          <a:xfrm>
            <a:off x="2406600" y="3243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88069"/>
          <p:cNvSpPr/>
          <p:nvPr/>
        </p:nvSpPr>
        <p:spPr>
          <a:xfrm>
            <a:off x="4406760" y="3243240"/>
            <a:ext cx="5763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88070"/>
          <p:cNvSpPr/>
          <p:nvPr/>
        </p:nvSpPr>
        <p:spPr>
          <a:xfrm>
            <a:off x="5597640" y="3224160"/>
            <a:ext cx="9190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88071"/>
          <p:cNvSpPr/>
          <p:nvPr/>
        </p:nvSpPr>
        <p:spPr>
          <a:xfrm>
            <a:off x="3701880" y="3605040"/>
            <a:ext cx="7988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88072"/>
          <p:cNvSpPr/>
          <p:nvPr/>
        </p:nvSpPr>
        <p:spPr>
          <a:xfrm>
            <a:off x="1258920" y="4005360"/>
            <a:ext cx="7984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1" name="图片 87041" descr=""/>
          <p:cNvPicPr/>
          <p:nvPr/>
        </p:nvPicPr>
        <p:blipFill>
          <a:blip r:embed="rId1"/>
          <a:stretch/>
        </p:blipFill>
        <p:spPr>
          <a:xfrm>
            <a:off x="476280" y="1471680"/>
            <a:ext cx="8191440" cy="391464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7043"/>
          <p:cNvSpPr/>
          <p:nvPr/>
        </p:nvSpPr>
        <p:spPr>
          <a:xfrm>
            <a:off x="3173400" y="2766960"/>
            <a:ext cx="31896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矩形 87044"/>
          <p:cNvSpPr/>
          <p:nvPr/>
        </p:nvSpPr>
        <p:spPr>
          <a:xfrm>
            <a:off x="3708360" y="2781360"/>
            <a:ext cx="503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矩形 87045"/>
          <p:cNvSpPr/>
          <p:nvPr/>
        </p:nvSpPr>
        <p:spPr>
          <a:xfrm>
            <a:off x="4411800" y="2776680"/>
            <a:ext cx="3952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矩形 87046"/>
          <p:cNvSpPr/>
          <p:nvPr/>
        </p:nvSpPr>
        <p:spPr>
          <a:xfrm>
            <a:off x="5430960" y="2776680"/>
            <a:ext cx="4363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矩形 87047"/>
          <p:cNvSpPr/>
          <p:nvPr/>
        </p:nvSpPr>
        <p:spPr>
          <a:xfrm>
            <a:off x="3144960" y="3195720"/>
            <a:ext cx="43632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7048"/>
          <p:cNvSpPr/>
          <p:nvPr/>
        </p:nvSpPr>
        <p:spPr>
          <a:xfrm>
            <a:off x="3708360" y="3184560"/>
            <a:ext cx="4968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矩形 87049"/>
          <p:cNvSpPr/>
          <p:nvPr/>
        </p:nvSpPr>
        <p:spPr>
          <a:xfrm>
            <a:off x="4383000" y="3195720"/>
            <a:ext cx="43668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矩形 87050"/>
          <p:cNvSpPr/>
          <p:nvPr/>
        </p:nvSpPr>
        <p:spPr>
          <a:xfrm>
            <a:off x="5435640" y="3193920"/>
            <a:ext cx="519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矩形 87051"/>
          <p:cNvSpPr/>
          <p:nvPr/>
        </p:nvSpPr>
        <p:spPr>
          <a:xfrm>
            <a:off x="3173400" y="3633840"/>
            <a:ext cx="31896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矩形 87052"/>
          <p:cNvSpPr/>
          <p:nvPr/>
        </p:nvSpPr>
        <p:spPr>
          <a:xfrm>
            <a:off x="3754440" y="3624120"/>
            <a:ext cx="457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矩形 87053"/>
          <p:cNvSpPr/>
          <p:nvPr/>
        </p:nvSpPr>
        <p:spPr>
          <a:xfrm>
            <a:off x="4383000" y="3614760"/>
            <a:ext cx="457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矩形 87054"/>
          <p:cNvSpPr/>
          <p:nvPr/>
        </p:nvSpPr>
        <p:spPr>
          <a:xfrm>
            <a:off x="5402160" y="3624120"/>
            <a:ext cx="5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3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8" dur="10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3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1000"/>
                                        <p:tgtEl>
                                          <p:spTgt spid="14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86018" descr=""/>
          <p:cNvPicPr/>
          <p:nvPr/>
        </p:nvPicPr>
        <p:blipFill>
          <a:blip r:embed="rId1"/>
          <a:stretch/>
        </p:blipFill>
        <p:spPr>
          <a:xfrm>
            <a:off x="371520" y="1109520"/>
            <a:ext cx="8400960" cy="46389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86019"/>
          <p:cNvSpPr/>
          <p:nvPr/>
        </p:nvSpPr>
        <p:spPr>
          <a:xfrm>
            <a:off x="4707000" y="460548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86020"/>
          <p:cNvSpPr/>
          <p:nvPr/>
        </p:nvSpPr>
        <p:spPr>
          <a:xfrm>
            <a:off x="1220760" y="5386320"/>
            <a:ext cx="11905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84993" descr=""/>
          <p:cNvPicPr/>
          <p:nvPr/>
        </p:nvPicPr>
        <p:blipFill>
          <a:blip r:embed="rId1"/>
          <a:stretch/>
        </p:blipFill>
        <p:spPr>
          <a:xfrm>
            <a:off x="347760" y="1076400"/>
            <a:ext cx="8448480" cy="4705200"/>
          </a:xfrm>
          <a:prstGeom prst="rect">
            <a:avLst/>
          </a:prstGeom>
          <a:ln w="0">
            <a:noFill/>
          </a:ln>
        </p:spPr>
      </p:pic>
      <p:sp>
        <p:nvSpPr>
          <p:cNvPr id="1458" name="矩形 84994"/>
          <p:cNvSpPr/>
          <p:nvPr/>
        </p:nvSpPr>
        <p:spPr>
          <a:xfrm>
            <a:off x="2306520" y="149076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矩形 84995"/>
          <p:cNvSpPr/>
          <p:nvPr/>
        </p:nvSpPr>
        <p:spPr>
          <a:xfrm>
            <a:off x="3430440" y="147168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矩形 84996"/>
          <p:cNvSpPr/>
          <p:nvPr/>
        </p:nvSpPr>
        <p:spPr>
          <a:xfrm>
            <a:off x="4611600" y="1481040"/>
            <a:ext cx="5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矩形 84997"/>
          <p:cNvSpPr/>
          <p:nvPr/>
        </p:nvSpPr>
        <p:spPr>
          <a:xfrm>
            <a:off x="7326360" y="1481040"/>
            <a:ext cx="91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2" name="矩形 84998"/>
          <p:cNvSpPr/>
          <p:nvPr/>
        </p:nvSpPr>
        <p:spPr>
          <a:xfrm>
            <a:off x="6240600" y="2224080"/>
            <a:ext cx="49212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矩形 84999"/>
          <p:cNvSpPr/>
          <p:nvPr/>
        </p:nvSpPr>
        <p:spPr>
          <a:xfrm>
            <a:off x="7935840" y="2624040"/>
            <a:ext cx="59688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矩形 85000"/>
          <p:cNvSpPr/>
          <p:nvPr/>
        </p:nvSpPr>
        <p:spPr>
          <a:xfrm>
            <a:off x="8155080" y="4205160"/>
            <a:ext cx="37764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5" name="图片 83969" descr=""/>
          <p:cNvPicPr/>
          <p:nvPr/>
        </p:nvPicPr>
        <p:blipFill>
          <a:blip r:embed="rId1"/>
          <a:stretch/>
        </p:blipFill>
        <p:spPr>
          <a:xfrm>
            <a:off x="528480" y="1019160"/>
            <a:ext cx="8087040" cy="4819680"/>
          </a:xfrm>
          <a:prstGeom prst="rect">
            <a:avLst/>
          </a:prstGeom>
          <a:ln w="0">
            <a:noFill/>
          </a:ln>
        </p:spPr>
      </p:pic>
      <p:sp>
        <p:nvSpPr>
          <p:cNvPr id="1466" name="矩形 83970"/>
          <p:cNvSpPr/>
          <p:nvPr/>
        </p:nvSpPr>
        <p:spPr>
          <a:xfrm>
            <a:off x="7812000" y="314172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82945" descr=""/>
          <p:cNvPicPr/>
          <p:nvPr/>
        </p:nvPicPr>
        <p:blipFill>
          <a:blip r:embed="rId1"/>
          <a:stretch/>
        </p:blipFill>
        <p:spPr>
          <a:xfrm>
            <a:off x="500040" y="995400"/>
            <a:ext cx="8143920" cy="4867200"/>
          </a:xfrm>
          <a:prstGeom prst="rect">
            <a:avLst/>
          </a:prstGeom>
          <a:ln w="0">
            <a:noFill/>
          </a:ln>
        </p:spPr>
      </p:pic>
      <p:sp>
        <p:nvSpPr>
          <p:cNvPr id="1468" name="矩形 82946"/>
          <p:cNvSpPr/>
          <p:nvPr/>
        </p:nvSpPr>
        <p:spPr>
          <a:xfrm>
            <a:off x="7812000" y="2090880"/>
            <a:ext cx="538200" cy="288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81921" descr=""/>
          <p:cNvPicPr/>
          <p:nvPr/>
        </p:nvPicPr>
        <p:blipFill>
          <a:blip r:embed="rId1"/>
          <a:stretch/>
        </p:blipFill>
        <p:spPr>
          <a:xfrm>
            <a:off x="485640" y="1752480"/>
            <a:ext cx="8172720" cy="3353040"/>
          </a:xfrm>
          <a:prstGeom prst="rect">
            <a:avLst/>
          </a:prstGeom>
          <a:ln w="0">
            <a:noFill/>
          </a:ln>
        </p:spPr>
      </p:pic>
      <p:sp>
        <p:nvSpPr>
          <p:cNvPr id="1470" name="矩形 81922"/>
          <p:cNvSpPr/>
          <p:nvPr/>
        </p:nvSpPr>
        <p:spPr>
          <a:xfrm>
            <a:off x="7840800" y="2814480"/>
            <a:ext cx="5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80897" descr=""/>
          <p:cNvPicPr/>
          <p:nvPr/>
        </p:nvPicPr>
        <p:blipFill>
          <a:blip r:embed="rId1"/>
          <a:stretch/>
        </p:blipFill>
        <p:spPr>
          <a:xfrm>
            <a:off x="495360" y="1757520"/>
            <a:ext cx="8153280" cy="3342960"/>
          </a:xfrm>
          <a:prstGeom prst="rect">
            <a:avLst/>
          </a:prstGeom>
          <a:ln w="0">
            <a:noFill/>
          </a:ln>
        </p:spPr>
      </p:pic>
      <p:sp>
        <p:nvSpPr>
          <p:cNvPr id="1472" name="矩形 80898"/>
          <p:cNvSpPr/>
          <p:nvPr/>
        </p:nvSpPr>
        <p:spPr>
          <a:xfrm>
            <a:off x="7773840" y="2852640"/>
            <a:ext cx="538200" cy="2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9:18Z</dcterms:modified>
  <cp:revision>3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